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A86-4C37-4E78-9980-370429D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6CC-91C1-48BB-8D32-82C23B7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5DF-0C0D-4827-B689-94E4C365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F17-3FB8-486C-BE11-809E733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B96-6001-4F4E-B106-3C918BA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6C2-B7FB-45B5-9F67-D2AB4FC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004-A534-4FA0-8A54-54EE0F5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584-A275-471C-804B-9701731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B4E-0ECC-409F-AA32-2ED19C3B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645-C5D2-456D-8325-95DDEA7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F85-A7F1-4742-B5B3-F063BE19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FB5-36D4-4CF6-A902-EDCB5A1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AEA5-CD92-4CF7-A727-33B1040F5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tlantic Wor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tizo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rson of European &amp; Native Am. desc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hildren of 1 Spanish parent, 1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Mesoamerica, Spanish Colonial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were a low class in colonial society &amp; had no rights but were above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mienda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ystem of forced labor that the Spanish  Europeans enslaved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Mes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system oppressed the natives &amp; eventually was abolished; the abolishment of this system led to an increase in the use of African slaves = slave trade boo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Nations Settle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ugal = went around Africa to get to Asia; claimed Braz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= went around South America to get to Asia; claimed South America &amp;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nch, English, &amp; Dutch = looked in North America (Northwest Pass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n’t find it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led colonies instea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settl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cques Cartier – St. Lawrence River &amp; Montr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uel de Champlain – founded Quebec – became “New Fran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led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Native Americans to Catho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, single men wanted $$ (Fur tr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n’t want to settle, build towns, or raise 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France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ance’s colonial empire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Quebec,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French went for $$ with fur trade- they took over Canada -&gt; Canada is largely French &amp; Catholic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En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ingle explorers but company of inv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 (Virginia – Jamest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of religion (Plymouth, Mass.- 2 grou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town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London company of investor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first settlement in North Ame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Virgi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ttlement was destroyed because the founders wanted to find gold &amp; didn’t plant crops -&gt; found tobacco &amp; eventually learn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&gt;  it became the first permanent settlement in North Ame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colony: Plymouth, Massachus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ere 2 groups in Mass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lgr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it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lgri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ligiously persecuted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olonists that sought religious freedom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;  Plymouth, M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founded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ony in the new world; famous for the Thanksgiving with the Native Americans we celebrate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Recap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chapter: we learned about explorers from Portugal and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anted to find a sea route to India/As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ugal = went aroun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 = went across the Atlanti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hapter: Spain settles in the W. Hemi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in’s exploring all started with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ligiously persecuted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y fled England to avoid religious persecution &amp; created a model colony for others to fol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, Massachus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created a successful colony because many families traveled &amp; helped it grow; this was where the Salem Witch Trials w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utch (from the Netherlan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by a company of investors (not funded by the King)– made the Dutch West India Comp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: Fur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Hudson – main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3 waterways in North America (near Canada) : Hudson River, Hudson Bay, Hudson Str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claims: what is today Albany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Netherland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utch, Henry Hud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colonies owned by the Dutch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ort Orange (Albany, New Y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colony slowly profited from the Fur trade &amp; they opened themselves to colonists from other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&amp; Ind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 vs,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 a war b/n British &amp; French over colonial territories in the new world; known as the “Seven Years War”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mericas &amp;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54-17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pread to Europe, India, &amp; Africa; The British won Canada from France= they own it today; Treaty of Paris 1763 ended the war = ensured British dominance of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tlantic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s go to the New World for resources (Fur, tobacco, Sugar, Cotton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on’t want to do the work, so they need someone to do it to make $$$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… SLAVES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rul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lavery had existed for centuries &amp; was justified b.c. slaves were prisoners of war; Rulers sold their Africans as slaves to the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Merch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erchants sell things to make $$$- the demand was African slaves so the merchants sold the slaves for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ropean colonization of America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were dying left &amp; right- they needed labor… Africans were immune to the diseases, could farm, were less likely to escape, &amp; their skin made it easier to catc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tuguese settlement of Braz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azil’s crop was sugar and they needed a lot of cheap labor to get it--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fricans,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buying and selling of Africans for work in the Americas as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frica,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18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y the time the slave trade ended 9.5 million Africans had been transported to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456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opher Columbus!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irst explorer for Spain; he discovered the Caribbean &amp; led voyages to the new world for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4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discovery of the Caribbean led to opening the Americas/West. Hemisphere for exploration and settling colonies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ular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, Af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ransatlantic trading route with 3 routes transporting ‘goods’ back and f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frica, Europe,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3 rout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Europeans took manufactured goods to Africa- gave the goods in exchange for slave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Europeans took the slaves to Americas, dropped off slaves &amp; picked up raw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Europeans took the raw materials to England to make manufactured goods to then s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Pa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696520" cy="5308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yage that brought captured Africans to the Americas (route 2 on Triangular tr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rutal voyage- 20% perished during it; those that survived were sold into slavery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051000" y="154080"/>
            <a:ext cx="5796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quences of the Slave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societie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astating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generations of the fittest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 were torn apart,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guns to their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slaved Africa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ed greatly to the economic &amp; cultural development of the Americas with their labor &amp; knowledge of f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culture influenced American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merican colon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ere able to survive off the raw materials the Africans grew to then sell to the Europ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sent-day American cul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ubstantial African-American population &amp; mixed race pop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s’ culture (music, art, religion) influenced American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 &amp; Global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zation of the Americas resulted in the exchange of new items around the wor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ike the triangular trade but this is focused on goods rather than sla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change is called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1171440"/>
            <a:ext cx="873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umbian Exchange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, Asians, Africans,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global transfer of foods, plants, animals during the colonization of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Africa, Americ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transfer of goods introduced items never seen before (tomatoes, pineapples, tobacco, turkey, pumpkin, corn, potatoes etc) &amp; brought new food sources &amp; diseases to all over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rading system led to people getting rich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e rich ppl. Invested their $$$ in more colonizing &amp; trading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ey formed companies focused on the trade of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his led to the creation of a new economic system, called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Columbus, others followed and went to the Americas for 3 rea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onquered local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ett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lonies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 their people to live in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explorers were called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economic system based on private ownership &amp; investment of $$$ for a pro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 -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no longer controlled business &amp; weren’t the only wealthy ones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businesses run by people &amp; companies across Europe grew &amp; flourished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ow we are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apitalism (the new economic system) new types of companies form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instead of gov’ts controlling everything, people &amp; companies did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mpanies were called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-Stock Companie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investors &amp; business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mpany where businessmen bought stocks in a company- this combined wealth of many rich people = the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funded voyages to the new world to est. colonies- if the colony succeeded, the investor made a lotta $$; if the colony failed, the investor didn’t make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’s Stock market comes from this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italism- New Economic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-Stock Company – capitalist compa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all this led to a new economic policy for the European nations: Mercanti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antilism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: European gover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: a new economic policy that said that a country’s power depended on wealth (not land anym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: 1600-180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.c. of this new policy, the goal of every nation was to get the most wealth (not as much l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e colonies a country had = the more goods produced = the more w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European countries raced to get as many colonie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quistador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panish explorers that conquered the Americas looking for gold and sil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Mexico,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conquerors destroyed the ancient American empires/tribes and brought European power to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Hernando Cortes (N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/conquistad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onquistador that settled in Mexico &amp; conquered the Azt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Me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s able to conquer the Aztecs (the great MesoAmerican empire) because the Spanish had better weapons, diseases, &amp; help of local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Francisco Pizar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explorer/conquis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conquered Peru and destroyed the Inc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P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killed Atahualpa (the Incan leader), destroyed the Incan Empire, and created a Spanish Empire in South Americ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ahual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Incan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ook over Incan Empire from his brother after a civil war, resisted Christianity when the Spanish 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s conquered, tortured, &amp; killed by Pizarro (Spanish)= Incans were destroyed = Spanish created a colonial empire in the Ame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in’s pattern of con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d among the native people: married them &amp; had babies… (Mestiz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y oppressed &amp; exploited them for work &amp; resources (Encomie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3:12:40Z</dcterms:created>
  <dc:creator>Windows User</dc:creator>
  <dc:description/>
  <dc:language>en-US</dc:language>
  <cp:lastModifiedBy>Windows User</cp:lastModifiedBy>
  <dcterms:modified xsi:type="dcterms:W3CDTF">2012-12-07T19:55:48Z</dcterms:modified>
  <cp:revision>31</cp:revision>
  <dc:subject/>
  <dc:title>Chapter 20 The Atlantic World</dc:title>
</cp:coreProperties>
</file>